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DBF-F7CA-4506-8352-26F743BC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D6C-CDEE-4899-8BF8-49847876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8B1-B5D2-4600-B34F-A4A079D2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662-8212-4CE7-A022-9F18E902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841-5B42-420A-B51E-A1AB755F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66C-33FC-49B6-98E9-E5AA7AA1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764-151D-4179-823B-AC52EC7D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474-BB9D-4BF7-A0A7-1EF52ABA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694-AA24-4FD4-8E44-7057CDE1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FD8-5B0B-4D21-91B5-162F581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3F6E-89AD-460A-8FC3-0DC2486F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399-5F71-4282-9A2E-0874D062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B95B-470D-4A4B-981E-D39426DC0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ossier de cho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609480"/>
            <a:ext cx="2286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8954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1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8620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2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769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3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4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051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lution actuell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7160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37160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s de foncti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nvén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051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895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88620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48769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9:14Z</dcterms:modified>
  <cp:revision>8</cp:revision>
  <dc:subject/>
  <dc:title>Présentation PowerPoint</dc:title>
</cp:coreProperties>
</file>